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A5D-601F-440D-84B2-1810A402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E0F-222A-42E8-909B-08550CD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CFDCC-AF18-4AF5-8AD7-BFA5048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0BA3D-84DD-4106-8A81-C13E1E43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AA8BA-BC42-4460-B1AF-C98BD2FE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9AA6E-1488-4E89-A2F9-E44DF7C7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FB0F3-3D11-4DB2-A92D-11E0B4A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3CBDC-0A19-4215-A000-B7CAD96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7025D-A580-4402-93BB-27EA76B0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6300B-0283-4436-AB1E-D7380271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0702A-64E4-4622-A053-A4AAD45F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CF1DC-C1DF-4C56-9A28-F0084EF9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6B5-9EA2-448E-AA10-E8BCCE9A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3E37F-1D70-437B-8484-6A543D61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D8667-032F-4DFA-BAE2-21B9D545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7D8AC-EBD3-4098-BB55-2FB940D2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954B7-B66D-4D78-ACEA-F02371AC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EA7D3-E498-479A-8590-7B062AFB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BAE31-853A-4F24-B694-C2B1D1E2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1E92D-7256-422F-A522-748A408C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3BEC3-53CE-44FC-A50B-9ACD2A3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C8D5A-D47F-4BC1-958E-F1B1CCBE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0F152-8EC3-444B-AC7D-7E040BA9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0B0-B9BF-4634-8D0E-ABF24E1C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F9EDF-B334-42C8-B1C6-201D3B0F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87948-E012-4DCD-8585-B69F7AE7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7E462-EB80-4747-854B-7335BA19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E615B-E7AC-44BB-AC73-DF5C41C2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ECF6C-02F5-4CE9-816A-AB942A81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558BB-8063-43F0-B0A6-29E0C2E4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1304F-6BC3-4362-99FD-F343F9D3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04E5B-461C-4482-A5E9-471DAABD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2A6B1-171F-46E7-A350-5E35E50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5E8E9-6BF3-4A6E-B93C-23A27638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A701-98BC-4767-AF24-2AC5FA07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AF121-6AEC-4CE8-B4C2-E167C81A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4D1A2-B1F2-46FC-B66B-48BC6652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62664-9526-4115-9A5A-753D0510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4065-3F1B-46C9-B8B0-BBA6BEFF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1C11-64F6-40B9-AA9D-5ED823E8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0195-0B2F-474E-BF48-9D4BF5BE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F751-F001-407C-9AD5-E47D6593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4CEE-6EF5-455A-8FBA-C6344D45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DF4C-E3E3-497A-A792-134F57A7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878-3CE9-4365-86C6-B50E69D9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B5F5-58F2-4CA2-8248-55DE041A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62AC-C400-467B-AB10-C89B74B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37C1-CAFE-420A-A282-229AD849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4B86-7F49-47B9-ADB3-F623ACE0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954B-D9B9-4141-B0C8-5F2625F8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05E1-4316-4AC0-86EE-A3C943C9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1EA3-E162-4BC2-8AB8-2DD3C651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40A7-390E-4B9E-A5CE-1B959121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AB13-2AA3-48AD-A4C3-27B4747F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148C-6709-4E12-A08C-03206B4D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37C-D10E-4749-A9C1-9A5747BF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40A6-840B-4707-A54A-33EB1244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303AC-45CD-40B9-867C-F233CDE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D4CA-9A00-4787-B403-FB87C14B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220E-E65D-4AE1-B9E3-7C3ECDA4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84E15-BCC6-493F-837B-3680B8E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C63C-C079-4C7E-A784-A7CD2497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2777-E34F-4ADF-BBB0-5EEF09E2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02C3-B87D-4EDB-B9C7-DD6638D9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93306-0D44-4D90-80BA-540CB2D9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86AE-838D-4B63-B889-7A21EC1E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B37-B352-4FDA-95A4-6FE871D6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27EC9-75C7-4CDE-BD18-07D23C50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8D61-0DEF-4035-BDEF-8ACFD398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15FD6-0576-457C-B480-3E4283ED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508A-91A1-4D8C-A716-25068790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07928-9C8D-45BA-BDF2-37F96C8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C5650-3BFA-4945-8154-46C8A3DE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2C040-1344-4FDF-9F96-FDD22CDB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6B0EC-EA51-45F0-9B12-902008B1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A3686-B842-45B6-B138-A753D30E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F1759-FA9B-45C6-94EB-ED9635B0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E04-6ACE-4970-9F94-9CF623E0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6F950-A7DC-4989-9CBC-DAF315FA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FFA24-A097-467B-81DC-734543D1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E4FA1-5890-46C6-B6BF-DF568DBC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51C94-5093-4F0B-B852-E846A053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8C67B-378E-49A6-AF4C-11D1067F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98B24-EBD5-4CC3-83FB-A49F9720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976C3-9880-4E27-91A5-6236CDA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EC7A-D685-4953-8B29-58D15226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73C67-5146-4352-BB29-3DFE3984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0D05-C0B4-4256-8B1C-D949018B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9A7-9B3B-4D8F-B446-BC67519D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3F674-3DED-49FC-BD4C-2506472B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BFF18-95BC-4F54-9F49-B5FF3786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75896-D582-4AC4-BD2D-3A665B70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4633-5369-4E97-8386-5575464C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E3E9D-369E-4524-AD7F-A9509ABE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AA1C3-038C-4476-ADFD-5F9F3CF9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3AA94-5D15-4A39-A47F-33D6CD48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89B70-7109-41FC-B7C7-ED8504FB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1F6CA-3E25-4E58-B97C-DB12288B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E8435-FEB3-4315-BC8C-78824B5D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1C5-9BAE-4301-8486-5952A59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FB3D2-8320-41B2-A704-108AD0D2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C1294-3EA9-4C80-A614-01871882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A5FC-CF3D-43C3-8401-B2942143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FF070-6566-4585-B5BC-0E315200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6759C-755B-46FA-A4DC-94752774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0FA31-36F6-4D42-A167-FCA79781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7BBFF-85D0-4167-8042-17A4871E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3B3BA-54CE-4B19-A0B0-4977195A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F4525-2799-46A1-B2E3-BDECC040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60692-BCDE-4F41-9EB0-9B51EFF4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782-E02D-491A-8B5F-9F7E909E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63F6B-7B32-4339-9EEB-8A595661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1619D-AEA4-4F13-9572-726E3F7E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BE9BE-70C7-4713-B660-8CC75358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8B2B3-6A7D-4EA2-8568-8A39C72A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C527C-77A5-4DC8-8AA5-515E9EC4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2CBEA-BFC6-430D-85C5-78095FFD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B00E1-8698-4D62-AF57-79872A42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1140C-C1BB-4C14-BD00-D8DA1655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321B0-BB55-4E2A-BB57-F37AEE30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30077-3252-477A-A994-D00BF514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15F-9778-4908-9672-58FCA4DC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C8DE2-C552-4153-98E4-12476D9A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C652A-298B-4186-9840-4C3F5AE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27043-C9C8-46F5-A6AC-ACA7ED4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B8A45-673D-4AA5-85AF-E974D6E2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95ADF-75F1-44EB-9177-F8BF8727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5EB4A-FE90-48DF-A0CA-DA47688F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E42D2-57ED-460D-BF24-5A074D7D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91BD8-2119-433D-9275-037968E3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9DA99-0070-4776-81D0-69110F42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DF6C4-7BD6-436A-A58C-805C63B6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BD90-08E2-47A8-BF0F-502B6611B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E07C-CD22-49B8-9E92-C941E7115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1598-6ED2-46F8-BB1A-1E393AF6B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A277-D50E-43A4-A98F-CC7BBAB46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04D9-B684-491F-A7FC-8EBEFBEE8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49C6-F410-4C69-B078-4BE04D204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8018-B201-481E-9369-F24E20DA3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93E7-6A9E-4A47-A5E5-D21D4E8A2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9109-043A-4B5B-B5E5-405B93E04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DB81-FF45-4C4C-9CD9-3F402FC2F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31E7-68C9-48F0-8310-C485432D5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2"/>
          <p:cNvSpPr/>
          <p:nvPr/>
        </p:nvSpPr>
        <p:spPr>
          <a:xfrm>
            <a:off x="1344600" y="43657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5"/>
          <p:cNvSpPr txBox="1"/>
          <p:nvPr/>
        </p:nvSpPr>
        <p:spPr>
          <a:xfrm>
            <a:off x="1763640" y="1628640"/>
            <a:ext cx="554508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z c 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3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002A-E1CE-4FAF-87A1-784ADCA8C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wall03-1024"/>
          <p:cNvPicPr/>
          <p:nvPr/>
        </p:nvPicPr>
        <p:blipFill>
          <a:blip r:embed="rId2"/>
          <a:stretch/>
        </p:blipFill>
        <p:spPr>
          <a:xfrm>
            <a:off x="-324000" y="-819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1908000" y="2060640"/>
            <a:ext cx="8950680" cy="34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z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11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6956-0FF1-4F9A-81CA-BBBE51055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4"/>
          <p:cNvSpPr txBox="1"/>
          <p:nvPr/>
        </p:nvSpPr>
        <p:spPr>
          <a:xfrm>
            <a:off x="324000" y="1197000"/>
            <a:ext cx="7920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zī zí zǐ z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70F4-73BB-4072-91B0-68702E429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9"/>
          <p:cNvSpPr/>
          <p:nvPr/>
        </p:nvSpPr>
        <p:spPr>
          <a:xfrm>
            <a:off x="1187280" y="4292640"/>
            <a:ext cx="727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幼圆"/>
                <a:ea typeface="幼圆"/>
              </a:rPr>
              <a:t>半个圆圈</a:t>
            </a:r>
            <a:r>
              <a:rPr b="1" lang="en-US" sz="6600" spc="-1" strike="noStrike">
                <a:solidFill>
                  <a:srgbClr val="0033cc"/>
                </a:solidFill>
                <a:latin typeface="zypyyb"/>
                <a:ea typeface="zypyyb"/>
              </a:rPr>
              <a:t>c c c</a:t>
            </a:r>
            <a:r>
              <a:rPr b="0" lang="en-US" sz="6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1" descr="MDL-ZXM-1081-1"/>
          <p:cNvPicPr/>
          <p:nvPr/>
        </p:nvPicPr>
        <p:blipFill>
          <a:blip r:embed="rId3"/>
          <a:srcRect l="7433" t="20491" r="10595" b="18028"/>
          <a:stretch/>
        </p:blipFill>
        <p:spPr>
          <a:xfrm>
            <a:off x="4643280" y="126828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51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FECA-A430-426C-A802-853D45F58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cɑ  ce  cu  c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8FB3-4873-43DF-948C-8AD084518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1835280" y="2133720"/>
            <a:ext cx="95979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c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2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96DD-9D89-4F91-8DB3-CBDFBCCBB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WordArt 4"/>
          <p:cNvSpPr txBox="1"/>
          <p:nvPr/>
        </p:nvSpPr>
        <p:spPr>
          <a:xfrm>
            <a:off x="457200" y="2205000"/>
            <a:ext cx="82296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cī cí cǐ c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2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42C9-4414-48E8-BA70-CEC2C1C29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3"/>
          <p:cNvPicPr/>
          <p:nvPr/>
        </p:nvPicPr>
        <p:blipFill>
          <a:blip r:embed="rId2"/>
          <a:stretch/>
        </p:blipFill>
        <p:spPr>
          <a:xfrm>
            <a:off x="4572000" y="476280"/>
            <a:ext cx="3651120" cy="36003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9"/>
          <p:cNvSpPr/>
          <p:nvPr/>
        </p:nvSpPr>
        <p:spPr>
          <a:xfrm>
            <a:off x="1619280" y="429264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半个 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8 </a:t>
            </a: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字 </a:t>
            </a:r>
            <a:r>
              <a:rPr b="1" lang="en-US" sz="5400" spc="-1" strike="noStrike">
                <a:solidFill>
                  <a:srgbClr val="660033"/>
                </a:solidFill>
                <a:latin typeface="zypyyb"/>
                <a:ea typeface="zypyyb"/>
              </a:rPr>
              <a:t>s s s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0" descr="2010_3_4_14_38_8_3226"/>
          <p:cNvPicPr/>
          <p:nvPr/>
        </p:nvPicPr>
        <p:blipFill>
          <a:blip r:embed="rId3"/>
          <a:stretch/>
        </p:blipFill>
        <p:spPr>
          <a:xfrm>
            <a:off x="0" y="0"/>
            <a:ext cx="3719520" cy="371952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167D-D3AF-4364-9983-010FEE497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dj088"/>
          <p:cNvPicPr/>
          <p:nvPr/>
        </p:nvPicPr>
        <p:blipFill>
          <a:blip r:embed="rId2"/>
          <a:stretch/>
        </p:blipFill>
        <p:spPr>
          <a:xfrm>
            <a:off x="5724360" y="981000"/>
            <a:ext cx="1873440" cy="2305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2262686_193656038_2"/>
          <p:cNvPicPr/>
          <p:nvPr/>
        </p:nvPicPr>
        <p:blipFill>
          <a:blip r:embed="rId3"/>
          <a:stretch/>
        </p:blipFill>
        <p:spPr>
          <a:xfrm>
            <a:off x="0" y="1341360"/>
            <a:ext cx="1884240" cy="2016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200811875512522_2"/>
          <p:cNvPicPr/>
          <p:nvPr/>
        </p:nvPicPr>
        <p:blipFill>
          <a:blip r:embed="rId4">
            <a:lum contrast="18000"/>
          </a:blip>
          <a:srcRect l="47027" t="5759" r="0" b="22353"/>
          <a:stretch/>
        </p:blipFill>
        <p:spPr>
          <a:xfrm>
            <a:off x="3780000" y="1484280"/>
            <a:ext cx="1782720" cy="1873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200932125940862_2"/>
          <p:cNvPicPr/>
          <p:nvPr/>
        </p:nvPicPr>
        <p:blipFill>
          <a:blip r:embed="rId5">
            <a:lum contrast="24000"/>
          </a:blip>
          <a:srcRect l="11118" t="21538" r="12471" b="13860"/>
          <a:stretch/>
        </p:blipFill>
        <p:spPr>
          <a:xfrm>
            <a:off x="1908000" y="1557360"/>
            <a:ext cx="1872000" cy="1727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ɑ   se   su   s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AE6C-DA3D-4FE6-B3BD-4EF8702F9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340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4661bc1b9f36d0e0832f18b900c375b6"/>
          <p:cNvPicPr/>
          <p:nvPr/>
        </p:nvPicPr>
        <p:blipFill>
          <a:blip r:embed="rId2"/>
          <a:srcRect l="0" t="0" r="8479" b="15055"/>
          <a:stretch/>
        </p:blipFill>
        <p:spPr>
          <a:xfrm>
            <a:off x="0" y="-630360"/>
            <a:ext cx="9144000" cy="7488360"/>
          </a:xfrm>
          <a:prstGeom prst="rect">
            <a:avLst/>
          </a:prstGeom>
          <a:ln w="0">
            <a:noFill/>
          </a:ln>
        </p:spPr>
      </p:pic>
      <p:sp>
        <p:nvSpPr>
          <p:cNvPr id="546" name="WordArt 4"/>
          <p:cNvSpPr txBox="1"/>
          <p:nvPr/>
        </p:nvSpPr>
        <p:spPr>
          <a:xfrm>
            <a:off x="539640" y="404640"/>
            <a:ext cx="612000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s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47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3876-55D4-4A38-82C5-396BFB65B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4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sī sí sǐ s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7CAB-8352-458B-81B4-FA7895640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2133"/>
          <p:cNvPicPr/>
          <p:nvPr/>
        </p:nvPicPr>
        <p:blipFill>
          <a:blip r:embed="rId3"/>
          <a:stretch/>
        </p:blipFill>
        <p:spPr>
          <a:xfrm>
            <a:off x="1116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0" descr="12S314625250-21V5"/>
          <p:cNvPicPr/>
          <p:nvPr/>
        </p:nvPicPr>
        <p:blipFill>
          <a:blip r:embed="rId4"/>
          <a:stretch/>
        </p:blipFill>
        <p:spPr>
          <a:xfrm>
            <a:off x="1908000" y="1341360"/>
            <a:ext cx="4681800" cy="468144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5"/>
          <p:cNvSpPr/>
          <p:nvPr/>
        </p:nvSpPr>
        <p:spPr>
          <a:xfrm>
            <a:off x="3274920" y="1773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f0076"/>
                </a:solidFill>
                <a:latin typeface="Arial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3564000" y="2349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3348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3564000" y="191628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333399"/>
                </a:solidFill>
                <a:latin typeface="Arial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3780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99"/>
                </a:solidFill>
                <a:latin typeface="Arial"/>
              </a:rPr>
              <a:t>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3995640" y="2205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3995640" y="2421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4211640" y="2349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66"/>
                </a:solidFill>
                <a:latin typeface="Arial"/>
              </a:rPr>
              <a:t>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3995640" y="2060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66cc"/>
                </a:solidFill>
                <a:latin typeface="Arial"/>
              </a:rPr>
              <a:t>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4211640" y="2276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3300"/>
                </a:solidFill>
                <a:latin typeface="Arial"/>
              </a:rPr>
              <a:t>j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4427640" y="2852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3635280" y="213372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c1c1c"/>
                </a:solidFill>
                <a:latin typeface="Arial"/>
              </a:rPr>
              <a:t>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4067280" y="2060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800080"/>
                </a:solidFill>
                <a:latin typeface="Arial"/>
              </a:rPr>
              <a:t>x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572000" y="2637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3924360" y="220500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FE56-CE75-409F-A5CD-5D956C45D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042920" y="90792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妞妞写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4574160" y="76500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042920" y="184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蚕儿吐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427640" y="1625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042920" y="285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半个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4430160" y="2708280"/>
            <a:ext cx="17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1042920" y="371628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一个半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4503240" y="357336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CC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1116000" y="458136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像个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4574160" y="450864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15"/>
          <p:cNvSpPr txBox="1"/>
          <p:nvPr/>
        </p:nvSpPr>
        <p:spPr>
          <a:xfrm>
            <a:off x="2124000" y="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猜谜语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0724-E8C3-4A2E-9F30-2DC1604FE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46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899640" y="404640"/>
            <a:ext cx="6551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zz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圆半圆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c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个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字就是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5" descr="2_1"/>
          <p:cNvPicPr/>
          <p:nvPr/>
        </p:nvPicPr>
        <p:blipFill>
          <a:blip r:embed="rId3"/>
          <a:stretch/>
        </p:blipFill>
        <p:spPr>
          <a:xfrm>
            <a:off x="7667640" y="5373720"/>
            <a:ext cx="1152360" cy="1233360"/>
          </a:xfrm>
          <a:prstGeom prst="rect">
            <a:avLst/>
          </a:prstGeom>
          <a:ln w="0">
            <a:noFill/>
          </a:ln>
        </p:spPr>
      </p:pic>
      <p:sp>
        <p:nvSpPr>
          <p:cNvPr id="568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E01-4689-443A-AC7B-A8A2D5A70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148360" y="1238040"/>
            <a:ext cx="251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572" name="Line 4"/>
          <p:cNvSpPr/>
          <p:nvPr/>
        </p:nvSpPr>
        <p:spPr>
          <a:xfrm>
            <a:off x="5292720" y="17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5292720" y="2708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5364000" y="765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292720" y="37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E81D-492B-4408-9123-9B82CBF6D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5076720" y="1600200"/>
            <a:ext cx="15112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-7524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79" name="Line 5"/>
          <p:cNvSpPr/>
          <p:nvPr/>
        </p:nvSpPr>
        <p:spPr>
          <a:xfrm>
            <a:off x="4572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572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4572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4572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1114560" y="5300640"/>
            <a:ext cx="72738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B0C1-4241-4024-9DB2-B2A311D80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72840" y="1600200"/>
            <a:ext cx="22431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3"/>
          <p:cNvPicPr/>
          <p:nvPr/>
        </p:nvPicPr>
        <p:blipFill>
          <a:blip r:embed="rId2"/>
          <a:stretch/>
        </p:blipFill>
        <p:spPr>
          <a:xfrm>
            <a:off x="5076720" y="333360"/>
            <a:ext cx="3651480" cy="3600360"/>
          </a:xfrm>
          <a:prstGeom prst="rect">
            <a:avLst/>
          </a:prstGeom>
          <a:ln w="0">
            <a:noFill/>
          </a:ln>
        </p:spPr>
      </p:pic>
      <p:sp>
        <p:nvSpPr>
          <p:cNvPr id="588" name="Line 5"/>
          <p:cNvSpPr/>
          <p:nvPr/>
        </p:nvSpPr>
        <p:spPr>
          <a:xfrm>
            <a:off x="108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08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108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108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2A14-12E1-4E2A-B64A-AD23C4363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5"/>
          <p:cNvSpPr txBox="1"/>
          <p:nvPr/>
        </p:nvSpPr>
        <p:spPr>
          <a:xfrm>
            <a:off x="900000" y="981000"/>
            <a:ext cx="482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     c     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5" name="WordArt 6"/>
          <p:cNvSpPr txBox="1"/>
          <p:nvPr/>
        </p:nvSpPr>
        <p:spPr>
          <a:xfrm>
            <a:off x="539640" y="3789360"/>
            <a:ext cx="504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i   ci   si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EC5E-3456-4AA4-A477-044F915E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4"/>
          <p:cNvSpPr txBox="1"/>
          <p:nvPr/>
        </p:nvSpPr>
        <p:spPr>
          <a:xfrm>
            <a:off x="1403280" y="2349360"/>
            <a:ext cx="62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cī cí cǐ c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99" name="WordArt 5"/>
          <p:cNvSpPr txBox="1"/>
          <p:nvPr/>
        </p:nvSpPr>
        <p:spPr>
          <a:xfrm>
            <a:off x="1403280" y="333360"/>
            <a:ext cx="6120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黑体"/>
              </a:rPr>
              <a:t>zī zí zǐ z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黑体"/>
              <a:ea typeface="黑体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1332000" y="4292640"/>
            <a:ext cx="6264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黑体"/>
              </a:rPr>
              <a:t>sī sí sǐ s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黑体"/>
              <a:ea typeface="黑体"/>
            </a:endParaRPr>
          </a:p>
        </p:txBody>
      </p:sp>
      <p:sp>
        <p:nvSpPr>
          <p:cNvPr id="601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5E5F-9F37-472F-BBD6-AE4A2CCF5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5" descr="IMAG1238549786024439"/>
          <p:cNvPicPr/>
          <p:nvPr/>
        </p:nvPicPr>
        <p:blipFill>
          <a:blip r:embed="rId2"/>
          <a:srcRect l="0" t="20117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0" y="764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sī jī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7200" spc="-1" strike="noStrike">
                <a:solidFill>
                  <a:srgbClr val="0033cc"/>
                </a:solidFill>
                <a:latin typeface="黑体"/>
                <a:ea typeface="黑体"/>
              </a:rPr>
              <a:t>cí yǔ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zǐ sè  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tuō mǎ s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2_1"/>
          <p:cNvPicPr/>
          <p:nvPr/>
        </p:nvPicPr>
        <p:blipFill>
          <a:blip r:embed="rId3"/>
          <a:stretch/>
        </p:blipFill>
        <p:spPr>
          <a:xfrm>
            <a:off x="8059680" y="5697360"/>
            <a:ext cx="1084320" cy="1160640"/>
          </a:xfrm>
          <a:prstGeom prst="rect">
            <a:avLst/>
          </a:prstGeom>
          <a:ln w="0">
            <a:noFill/>
          </a:ln>
        </p:spPr>
      </p:pic>
      <p:sp>
        <p:nvSpPr>
          <p:cNvPr id="60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3D69-C9AA-4B3E-8E15-9C96C757B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5" descr="46_1286934152Z7Vg"/>
          <p:cNvPicPr/>
          <p:nvPr/>
        </p:nvPicPr>
        <p:blipFill>
          <a:blip r:embed="rId2"/>
          <a:stretch/>
        </p:blipFill>
        <p:spPr>
          <a:xfrm>
            <a:off x="6480" y="3240"/>
            <a:ext cx="9099360" cy="6823080"/>
          </a:xfrm>
          <a:prstGeom prst="rect">
            <a:avLst/>
          </a:prstGeom>
          <a:ln w="0">
            <a:noFill/>
          </a:ln>
        </p:spPr>
      </p:pic>
      <p:sp>
        <p:nvSpPr>
          <p:cNvPr id="478" name="WordArt 4"/>
          <p:cNvSpPr txBox="1"/>
          <p:nvPr/>
        </p:nvSpPr>
        <p:spPr>
          <a:xfrm>
            <a:off x="2195640" y="-171360"/>
            <a:ext cx="53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欢迎你</a:t>
            </a:r>
            <a:endParaRPr b="1" lang="en-US" sz="4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833F-39C0-4F57-9311-D8EF4FCE2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434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148360" y="-6075000"/>
            <a:ext cx="2519280" cy="160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5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3" name="Picture 4" descr="1"/>
          <p:cNvPicPr/>
          <p:nvPr/>
        </p:nvPicPr>
        <p:blipFill>
          <a:blip r:embed="rId2"/>
          <a:stretch/>
        </p:blipFill>
        <p:spPr>
          <a:xfrm>
            <a:off x="-25236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4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像个小２ 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z z z</a:t>
            </a: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0" descr="f704bdfe50255cb9b901a0f7"/>
          <p:cNvPicPr/>
          <p:nvPr/>
        </p:nvPicPr>
        <p:blipFill>
          <a:blip r:embed="rId3"/>
          <a:stretch/>
        </p:blipFill>
        <p:spPr>
          <a:xfrm>
            <a:off x="4643280" y="0"/>
            <a:ext cx="3810240" cy="3314880"/>
          </a:xfrm>
          <a:prstGeom prst="rect">
            <a:avLst/>
          </a:prstGeom>
          <a:ln w="0">
            <a:noFill/>
          </a:ln>
        </p:spPr>
      </p:pic>
      <p:sp>
        <p:nvSpPr>
          <p:cNvPr id="48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6CC9-9CF2-402C-8B27-EA784EB8C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3997440" y="1341360"/>
            <a:ext cx="167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z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141800" y="3357720"/>
            <a:ext cx="19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1044360" y="3284640"/>
            <a:ext cx="13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173240" y="1143000"/>
            <a:ext cx="145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403F-F7BE-496E-9737-9513170C4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639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84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ā  zá   zǎ  z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55E7-6E5E-4947-A2DA-01FF2F800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ē  zé  zě  z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C1C8-9358-4D70-8A37-D80F51F4E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ū  zú   zǔ  z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E714-55D6-4315-8A0E-42BB34FBB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zuō  zuó  zuǒ  z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254F-3A7D-4057-8645-AE3656DD0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5:15:40Z</dcterms:created>
  <dc:creator/>
  <dc:description/>
  <cp:keywords/>
  <dc:language>en-US</dc:language>
  <cp:lastModifiedBy>User</cp:lastModifiedBy>
  <dcterms:modified xsi:type="dcterms:W3CDTF">2016-10-05T12:47:28Z</dcterms:modified>
  <cp:revision>57</cp:revision>
  <dc:subject/>
  <dc:title>幻灯片 1</dc:title>
</cp:coreProperties>
</file>